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643-75B1-4D47-B2FA-4BDCAB3E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E5E-0CAD-4228-BA7C-0CF48A7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BC2-8335-4ECD-ADB8-828C26C9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87A-89DA-4713-ADE1-017B190F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236-97F8-4EC8-A95A-F837DDD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6B6-D141-4281-B678-5CC31739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D81-1EF6-444E-AC88-FADB2D4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DDE-8ABA-45FE-87D7-04E848E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1EE-1F7E-41B1-B4B5-43EED1F9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B51-DE2F-4E77-B8E3-063B67D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326-7970-4EC5-8011-2F77404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3DE-B3DF-480E-A0E7-57398EF8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1F44-B361-4185-9738-9440764F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2266920" cy="236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48520" y="41148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255276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 rot="19948200">
            <a:off x="5867280" y="0"/>
            <a:ext cx="244332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5556240"/>
            <a:ext cx="312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352680" y="4191120"/>
            <a:ext cx="2743200" cy="243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590920" y="2514600"/>
            <a:ext cx="6357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owerpoint About M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130480"/>
            <a:ext cx="7467840" cy="472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3520" y="228600"/>
            <a:ext cx="7772400" cy="25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lie's Hous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0"/>
            <a:ext cx="7924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avorite Spor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72000"/>
            <a:ext cx="22510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2438280"/>
            <a:ext cx="35049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304920"/>
            <a:ext cx="7696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58000" y="3048120"/>
            <a:ext cx="1863720" cy="305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24001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57600" y="4419720"/>
            <a:ext cx="3124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43000" y="304920"/>
            <a:ext cx="7010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429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6:58Z</dcterms:created>
  <dc:creator>CGB</dc:creator>
  <dc:description/>
  <dc:language>en-US</dc:language>
  <cp:lastModifiedBy>CGB</cp:lastModifiedBy>
  <dcterms:modified xsi:type="dcterms:W3CDTF">2008-06-02T14:13:36Z</dcterms:modified>
  <cp:revision>4</cp:revision>
  <dc:subject/>
  <dc:title>Slide 1</dc:title>
</cp:coreProperties>
</file>